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2677B-CAF0-4456-90DC-AE454D840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05D7B-370E-428B-94D2-785E5EF52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80E12-8810-4C21-8C44-C10690602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BF8B0-7887-44F6-BC8A-7628FDB74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153F5AE-541B-45E1-B0B7-3412F37C8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E701C0-D335-4165-8044-4C7CF261B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9C516F-9CE9-4164-8649-CCC10B633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9FBE9B-6ACB-4321-B899-F3D9A544B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BCE0A4-B1C9-4ADD-AB68-47352EF9E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78BACE-BE26-4128-A1AF-4E81301E3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6F6190-4C3C-4F47-B1D8-01192FF3F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5D843-DD79-488D-99AF-DDB738FB5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0D6CCB-06CE-4D2C-8DF4-BDA458F73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C97801-903E-437F-90DE-DB83B710C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6BD28E9-B140-40AB-82A8-42DFBC691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C04C05C-F40B-460F-A505-0322E8A37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D76C7FE-93F4-4A99-9FEA-35494CB4F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CE2464-2C29-47D5-AE32-E8A23330EF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CDAACE-BB1D-4770-BAF0-AB1534AD3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771AF-E5D3-4C66-928A-418D96D63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67F86-DD97-44BC-9133-66C8F73533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74611-6555-47B6-B6BD-B33840C8DC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CCCDC-D359-48F2-BC8F-4F24FC721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C30F3-D84C-4817-9A9E-FA5759515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D1423-9B1C-423B-B14C-1EDAFA7FC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1293F-C5D8-4D4C-A197-E056D03B1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BAB4D-6BD3-4202-ACAA-A4100F804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72AF4D-5C81-4547-81A3-D755BA55C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1D5847-0837-4A77-AE55-3E718F839D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EEDD2A-BE2F-4075-BF40-2E05DA01FB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6AE6DCBE-63F9-45E8-B489-3069EAA770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8550C91-68A6-4074-9B39-2AF681E7F2C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EF7302B-4B1A-4F37-A913-4AB97083444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0856E-3CE4-47B7-8B62-830376E14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A9A610A-A803-46F1-93CF-3261F7E77E6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6FF24D6-7D87-4645-8426-FD145AB47AB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AAF702A-8F85-47E2-9AD0-02BE6CAB527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0B2A72C-21BD-42D6-8040-4FC7D9E629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99ECE3B-8DED-4972-B4D5-78CF8E3D41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4D8FBE7-1F1E-48E5-A581-4AC3EF2FB40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096F043-294E-42F3-8A8F-5EE1D3E5060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7DE76F6-B485-4BE5-A5EF-A95A589DAF8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C4866C5-4E31-4B0A-B18A-162249568F9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070DF-BBBC-4215-A05B-D592161E7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DCEF6-2789-493D-A834-F6F446860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60AD0-CE7F-4485-9CA4-ADECCEF79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3BA6-DE27-494C-988E-13AF726A0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DE75-0A8D-48F2-9631-986517C90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5176-093B-4C51-80ED-33DCB32EED42}"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7637-D77E-4693-9FE3-ABE5EA8D9EBF}"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BF8F-136C-4764-8B2E-5010FD6B9B17}"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E5E2-A088-4C3C-854E-14C777E93B73}"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mart-words.org/transition-word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80880" y="243792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ac9"/>
                </a:solidFill>
                <a:latin typeface="Constantia"/>
              </a:rPr>
              <a:t>THE 6+1 TRAITS OF WRITING</a:t>
            </a:r>
            <a:endParaRPr b="0" lang="en-US" sz="3600" spc="-1" strike="noStrike">
              <a:solidFill>
                <a:srgbClr val="ffffff"/>
              </a:solidFill>
              <a:latin typeface="Constantia"/>
            </a:endParaRPr>
          </a:p>
        </p:txBody>
      </p:sp>
      <p:pic>
        <p:nvPicPr>
          <p:cNvPr id="171" name="Title 1" descr=""/>
          <p:cNvPicPr/>
          <p:nvPr/>
        </p:nvPicPr>
        <p:blipFill>
          <a:blip r:embed="rId1"/>
          <a:stretch/>
        </p:blipFill>
        <p:spPr>
          <a:xfrm>
            <a:off x="457200" y="1432080"/>
            <a:ext cx="830880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1371600" y="838080"/>
            <a:ext cx="655308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u="sng">
                <a:solidFill>
                  <a:srgbClr val="ffffff"/>
                </a:solidFill>
                <a:uFillTx/>
                <a:latin typeface="Arial"/>
              </a:rPr>
              <a:t>Key Questio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organizational structure enhance or showcase the central idea/  theme and make it easier to understan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organization follow a logical sequenc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al structure enhance or showcas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 idea or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 follow a logical sequenc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rganization</a:t>
            </a:r>
            <a:endParaRPr b="0" lang="en-US" sz="4200" spc="-1" strike="noStrike">
              <a:solidFill>
                <a:srgbClr val="f9f9f9"/>
              </a:solidFill>
              <a:latin typeface="Constantia"/>
            </a:endParaRPr>
          </a:p>
        </p:txBody>
      </p:sp>
      <p:sp>
        <p:nvSpPr>
          <p:cNvPr id="18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ppealing ope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direction/ logical progression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ffective sequen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nected-nes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mooth transition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ood pa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uilds to high point</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trong sense of conclusion</a:t>
            </a:r>
            <a:endParaRPr b="0" lang="en-US" sz="2400" spc="-1" strike="noStrike">
              <a:solidFill>
                <a:srgbClr val="fefac9"/>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86" name="PlaceHolder 2"/>
          <p:cNvSpPr>
            <a:spLocks noGrp="1"/>
          </p:cNvSpPr>
          <p:nvPr>
            <p:ph/>
          </p:nvPr>
        </p:nvSpPr>
        <p:spPr>
          <a:xfrm>
            <a:off x="457200" y="1447560"/>
            <a:ext cx="8229600" cy="4678200"/>
          </a:xfrm>
          <a:prstGeom prst="rect">
            <a:avLst/>
          </a:prstGeom>
          <a:noFill/>
          <a:ln w="0">
            <a:noFill/>
          </a:ln>
        </p:spPr>
        <p:txBody>
          <a:bodyPr anchor="t">
            <a:normAutofit fontScale="93000"/>
          </a:bodyPr>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Word choice is the use of rich, colorful, precise language that moves and </a:t>
            </a:r>
            <a:endParaRPr b="0" lang="en-US" sz="2000" spc="-1" strike="noStrike">
              <a:solidFill>
                <a:srgbClr val="ffffff"/>
              </a:solidFill>
              <a:latin typeface="Constantia"/>
            </a:endParaRPr>
          </a:p>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enlightens the reader.</a:t>
            </a:r>
            <a:endParaRPr b="0" lang="en-US" sz="2000" spc="-1" strike="noStrike">
              <a:solidFill>
                <a:srgbClr val="ffffff"/>
              </a:solidFill>
              <a:latin typeface="Constantia"/>
            </a:endParaRPr>
          </a:p>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Strong word choice clarifies and expands ideas.</a:t>
            </a:r>
            <a:endParaRPr b="0" lang="en-US" sz="2000" spc="-1" strike="noStrike">
              <a:solidFill>
                <a:srgbClr val="ffffff"/>
              </a:solidFill>
              <a:latin typeface="Constantia"/>
            </a:endParaRPr>
          </a:p>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Don’t tell me the moon is shining; show me the glint of light on broken glass.”</a:t>
            </a:r>
            <a:endParaRPr b="0" lang="en-US" sz="2000" spc="-1" strike="noStrike">
              <a:solidFill>
                <a:srgbClr val="ffffff"/>
              </a:solidFill>
              <a:latin typeface="Constantia"/>
            </a:endParaRPr>
          </a:p>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endParaRPr b="0" lang="en-US" sz="2000" spc="-1" strike="noStrike">
              <a:solidFill>
                <a:srgbClr val="ffffff"/>
              </a:solidFill>
              <a:latin typeface="Constantia"/>
            </a:endParaRPr>
          </a:p>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powerful action verbs (vivid verbs).</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specific descriptive nouns.</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adjectives that are as descriptive as possible.</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Be concise (tighten sentences).</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words correctly. </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language that is natural and not overdone.</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figurative language – similes, metaphors, hyperbole.</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void repetition, slang, and clichés.</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838080"/>
            <a:ext cx="8229600" cy="457200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simple, unadorned, but complete sentence, “I went for a walk.” </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erbalize the questions a sentence like this hopefully brings to mind--Where did you go? Were you alone? Why did you go on this walk? What did you see or do on this walk? When did you go? Did you come back? </a:t>
            </a:r>
            <a:br>
              <a:rPr sz="2600"/>
            </a:br>
            <a:br>
              <a:rPr sz="2600"/>
            </a:br>
            <a:r>
              <a:rPr b="0" lang="en-US" sz="2600" spc="-1" strike="noStrike">
                <a:solidFill>
                  <a:srgbClr val="ffffff"/>
                </a:solidFill>
                <a:latin typeface="Constantia"/>
              </a:rPr>
              <a:t>3) Using these ideas, add some life to the sentence-details/description, to help it become a "super sentence." Example: "Last night, my dog Rufus and I took a long walk through the dark woods."</a:t>
            </a:r>
            <a:endParaRPr b="0" lang="en-US" sz="2600" spc="-1" strike="noStrike">
              <a:solidFill>
                <a:srgbClr val="ffffff"/>
              </a:solidFill>
              <a:latin typeface="Constantia"/>
            </a:endParaRPr>
          </a:p>
        </p:txBody>
      </p:sp>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 the words and phrases create vivid pictures that linger in the reader’s mind?</a:t>
            </a:r>
            <a:r>
              <a:rPr b="0" lang="en-US" sz="4000" spc="-1" strike="noStrike">
                <a:solidFill>
                  <a:srgbClr val="ffffff"/>
                </a:solidFill>
                <a:latin typeface="Constantia"/>
              </a:rPr>
              <a:t> </a:t>
            </a:r>
            <a:endParaRPr b="0" lang="en-US" sz="40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ave I used any new word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try not to repeat words too many times?</a:t>
            </a:r>
            <a:endParaRPr b="0" lang="en-US" sz="2600" spc="-1" strike="noStrike">
              <a:solidFill>
                <a:srgbClr val="ffffff"/>
              </a:solidFill>
              <a:latin typeface="Constantia"/>
            </a:endParaRPr>
          </a:p>
        </p:txBody>
      </p:sp>
      <p:sp>
        <p:nvSpPr>
          <p:cNvPr id="1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atur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tive, energetic verb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cise, concrete nouns &amp; modifier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ew twists on everyday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inimal redundancy (repetitive, unnecessary)</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curacy of express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aints pictures</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nk for transitional words/phrases</a:t>
            </a:r>
            <a:endParaRPr b="0" lang="en-US" sz="2600" spc="-1" strike="noStrike">
              <a:solidFill>
                <a:srgbClr val="ffffff"/>
              </a:solidFill>
              <a:latin typeface="Constantia"/>
            </a:endParaRPr>
          </a:p>
        </p:txBody>
      </p:sp>
      <p:sp>
        <p:nvSpPr>
          <p:cNvPr id="195" name="Rectangle 4"/>
          <p:cNvSpPr/>
          <p:nvPr/>
        </p:nvSpPr>
        <p:spPr>
          <a:xfrm>
            <a:off x="2007360" y="3246480"/>
            <a:ext cx="512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e58b6"/>
                </a:solidFill>
                <a:uFillTx/>
                <a:latin typeface="Arial"/>
                <a:hlinkClick r:id="rId1"/>
              </a:rPr>
              <a:t>http://www.smart-words.org/transition-word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4678200"/>
          </a:xfrm>
          <a:prstGeom prst="rect">
            <a:avLst/>
          </a:prstGeom>
          <a:noFill/>
          <a:ln w="0">
            <a:noFill/>
          </a:ln>
        </p:spPr>
        <p:txBody>
          <a:bodyPr anchor="t">
            <a:normAutofit fontScale="94000"/>
          </a:bodyPr>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entence fluency is the rhythm and flow of the language, the </a:t>
            </a:r>
            <a:endParaRPr b="0" lang="en-US" sz="22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ound of word patterns, the way the writing plays to the ear, not </a:t>
            </a:r>
            <a:endParaRPr b="0" lang="en-US" sz="22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just to the eye.</a:t>
            </a:r>
            <a:endParaRPr b="0" lang="en-US" sz="22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To me the greatest pleasure of writing is not what it’s about, but the music the words make.”   </a:t>
            </a:r>
            <a:endParaRPr b="0" lang="en-US" sz="22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 writer should:</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Vary the length of sentences.</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different sentence structures or patterns.</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Begin the sentence in different ways.</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complete sentences – any fragments must add to the </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meaning of the text.</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language that sounds natural.</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Give the writing an easy flow and rhythm.</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9"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an you FEEL the words and phrases flow </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together as you read it aloud?</a:t>
            </a:r>
            <a:r>
              <a:rPr b="1" lang="en-US" sz="4000" spc="-1" strike="noStrike">
                <a:solidFill>
                  <a:srgbClr val="ffffff"/>
                </a:solidFill>
                <a:latin typeface="Constantia"/>
              </a:rPr>
              <a:t> </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201" name="PlaceHolder 2"/>
          <p:cNvSpPr>
            <a:spLocks noGrp="1"/>
          </p:cNvSpPr>
          <p:nvPr>
            <p:ph/>
          </p:nvPr>
        </p:nvSpPr>
        <p:spPr>
          <a:xfrm>
            <a:off x="457200" y="1447560"/>
            <a:ext cx="8229600" cy="4678200"/>
          </a:xfrm>
          <a:prstGeom prst="rect">
            <a:avLst/>
          </a:prstGeom>
          <a:noFill/>
          <a:ln w="0">
            <a:noFill/>
          </a:ln>
        </p:spPr>
        <p:txBody>
          <a:bodyPr anchor="t">
            <a:normAutofit/>
          </a:bodyPr>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heck list:</a:t>
            </a:r>
            <a:endParaRPr b="0" lang="en-US" sz="2400" spc="-1" strike="noStrike">
              <a:solidFill>
                <a:srgbClr val="fefac9"/>
              </a:solidFill>
              <a:latin typeface="Constantia"/>
            </a:endParaRPr>
          </a:p>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ive, memorable word combinations graceful, easy to read alou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atural, pleasant rhythm</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variety in length, type &amp; structure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tructure enhances mea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ffective, smooth phrasing</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380880" y="660240"/>
            <a:ext cx="8382240" cy="60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hy writing is import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expresses who you are as a person.</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portable and permanent and makes your thinking visible.</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helps you move easily among facts, inferences, and opinions without getting confused, and without confusing your read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deas down preserves them so that you can reflect upon them lat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provides you with the communication and thinking skills you need to participate effectively in society.</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an essential job skil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03" name="PlaceHolder 2"/>
          <p:cNvSpPr>
            <a:spLocks noGrp="1"/>
          </p:cNvSpPr>
          <p:nvPr>
            <p:ph/>
          </p:nvPr>
        </p:nvSpPr>
        <p:spPr>
          <a:xfrm>
            <a:off x="457200" y="1447560"/>
            <a:ext cx="8229600" cy="4678200"/>
          </a:xfrm>
          <a:prstGeom prst="rect">
            <a:avLst/>
          </a:prstGeom>
          <a:noFill/>
          <a:ln w="0">
            <a:noFill/>
          </a:ln>
        </p:spPr>
        <p:txBody>
          <a:bodyPr anchor="t">
            <a:normAutofit fontScale="94000"/>
          </a:bodyPr>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It is the heart and soul of the writing, the magic, the wit, the feeling and conviction of the writer coming through the words; it is the personality of the writer coming through on the page. It is what gives the reader the feeling that the writer is talking directly to you.</a:t>
            </a:r>
            <a:endParaRPr b="0" lang="en-US" sz="20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Write honestly and from the heart.</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Connect and interact with the reader.</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Care about topic. </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Speak directly to the reader in a way that is individual,</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compelling and engaging.</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Keep the reader interested in the topic.</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Share his/her feelings about the topic.</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language that brings the topic to life for the reader.</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expression to voice personality. </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the writing sound like m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say what I think and fee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my writing have energy and passio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uld I keep reading this paper if it were longe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07"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person behind the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riter is committed/involved with topic</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reaches out/connects to audienc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nergetic, lively, consistent ton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efinite point of view</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09" name="PlaceHolder 2"/>
          <p:cNvSpPr>
            <a:spLocks noGrp="1"/>
          </p:cNvSpPr>
          <p:nvPr>
            <p:ph/>
          </p:nvPr>
        </p:nvSpPr>
        <p:spPr>
          <a:xfrm>
            <a:off x="457200" y="1447560"/>
            <a:ext cx="8229600" cy="4678200"/>
          </a:xfrm>
          <a:prstGeom prst="rect">
            <a:avLst/>
          </a:prstGeom>
          <a:noFill/>
          <a:ln w="0">
            <a:noFill/>
          </a:ln>
        </p:spPr>
        <p:txBody>
          <a:bodyPr anchor="t">
            <a:normAutofit fontScale="92000"/>
          </a:bodyPr>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Conventions are the rules of the language. They are the common patterns of grammar and usage, spelling, punctuation, paragraphing (indenting) and capitalization that readers expect in good writing. They make writing easy to read and understand. </a:t>
            </a:r>
            <a:endParaRPr b="0" lang="en-US" sz="2000" spc="-1" strike="noStrike">
              <a:solidFill>
                <a:srgbClr val="ffffff"/>
              </a:solidFill>
              <a:latin typeface="Constantia"/>
            </a:endParaRPr>
          </a:p>
          <a:p>
            <a:pPr marL="250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5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                               </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Proofread and edit the paper.</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Use capitalization correctly.</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Make sure all spelling is corrected.</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Correct all grammar and punctuation.</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Reinforce the organization with good paragraphing.</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Turn in a clean, edited, and polished final draft.</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Good ideas could be overshadowed by errors in conventions</a:t>
            </a:r>
            <a:endParaRPr b="0" lang="en-US" sz="2000" spc="-1" strike="noStrike">
              <a:solidFill>
                <a:srgbClr val="ffffff"/>
              </a:solidFill>
              <a:latin typeface="Constantia"/>
            </a:endParaRPr>
          </a:p>
          <a:p>
            <a:pPr marL="25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that distract the reader. This trait is essential to a polished</a:t>
            </a:r>
            <a:endParaRPr b="0" lang="en-US" sz="2000" spc="-1" strike="noStrike">
              <a:solidFill>
                <a:srgbClr val="ffffff"/>
              </a:solidFill>
              <a:latin typeface="Constantia"/>
            </a:endParaRPr>
          </a:p>
          <a:p>
            <a:pPr marL="25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composition.</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11" name="PlaceHolder 2"/>
          <p:cNvSpPr>
            <a:spLocks noGrp="1"/>
          </p:cNvSpPr>
          <p:nvPr>
            <p:ph/>
          </p:nvPr>
        </p:nvSpPr>
        <p:spPr>
          <a:xfrm>
            <a:off x="457200" y="137124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One key question</a:t>
            </a:r>
            <a:endParaRPr b="0" lang="en-US" sz="2400" spc="-1" strike="noStrike">
              <a:solidFill>
                <a:srgbClr val="ffffff"/>
              </a:solidFill>
              <a:latin typeface="Constantia"/>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How much editing would have to be done to be ready to share with an outside reader?</a:t>
            </a:r>
            <a:r>
              <a:rPr b="1" lang="en-US" sz="2000" spc="-1" strike="noStrike">
                <a:solidFill>
                  <a:srgbClr val="ffffff"/>
                </a:solidFill>
                <a:latin typeface="Constantia"/>
              </a:rPr>
              <a:t> </a:t>
            </a:r>
            <a:endParaRPr b="0" lang="en-US" sz="20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ffective use of conjunctions &amp; transitions correct spell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rrect/effective punctu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ppropriate grammar/ usag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rrect capitaliz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designed to make reading easy</a:t>
            </a:r>
            <a:endParaRPr b="0" lang="en-US" sz="2400" spc="-1" strike="noStrike">
              <a:solidFill>
                <a:srgbClr val="fefac9"/>
              </a:solidFill>
              <a:latin typeface="Constantia"/>
            </a:endParaRPr>
          </a:p>
          <a:p>
            <a:pPr lvl="1" marL="639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f9f9"/>
                </a:solidFill>
                <a:latin typeface="Constantia"/>
              </a:rPr>
              <a:t>The Two Faces of the Traits</a:t>
            </a:r>
            <a:endParaRPr b="0" lang="en-US" sz="3600" spc="-1" strike="noStrike">
              <a:solidFill>
                <a:srgbClr val="f9f9f9"/>
              </a:solidFill>
              <a:latin typeface="Constantia"/>
            </a:endParaRPr>
          </a:p>
        </p:txBody>
      </p:sp>
      <p:sp>
        <p:nvSpPr>
          <p:cNvPr id="213" name="PlaceHolder 2"/>
          <p:cNvSpPr>
            <a:spLocks noGrp="1"/>
          </p:cNvSpPr>
          <p:nvPr>
            <p:ph/>
          </p:nvPr>
        </p:nvSpPr>
        <p:spPr>
          <a:xfrm>
            <a:off x="457200" y="2133360"/>
            <a:ext cx="8229600" cy="36874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CREATIVE, PERSONAL FACE:</a:t>
            </a:r>
            <a:r>
              <a:rPr b="1" lang="en-US" sz="2400" spc="-1" strike="noStrike" u="sng">
                <a:solidFill>
                  <a:srgbClr val="ffffff"/>
                </a:solidFill>
                <a:uFillTx/>
                <a:latin typeface="Constantia"/>
              </a:rPr>
              <a:t> </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Does the flow of the writing keep you reading?</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onstantia"/>
              </a:rPr>
              <a:t> </a:t>
            </a:r>
            <a:r>
              <a:rPr b="1" lang="en-US" sz="2600" spc="-1" strike="noStrike">
                <a:solidFill>
                  <a:srgbClr val="ffffff"/>
                </a:solidFill>
                <a:latin typeface="Constantia"/>
              </a:rPr>
              <a:t>INFORMATIONAL FACE:</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 </a:t>
            </a:r>
            <a:r>
              <a:rPr b="1" lang="en-US" sz="2400" spc="-1" strike="noStrike">
                <a:solidFill>
                  <a:srgbClr val="ffffff"/>
                </a:solidFill>
                <a:latin typeface="Constantia"/>
              </a:rPr>
              <a:t>Does organization help you understand key points or </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 </a:t>
            </a:r>
            <a:r>
              <a:rPr b="1" lang="en-US" sz="2400" spc="-1" strike="noStrike">
                <a:solidFill>
                  <a:srgbClr val="ffffff"/>
                </a:solidFill>
                <a:latin typeface="Constantia"/>
              </a:rPr>
              <a:t>issues?</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The Two Faces of the Traits</a:t>
            </a:r>
            <a:endParaRPr b="0" lang="en-US" sz="4200" spc="-1" strike="noStrike">
              <a:solidFill>
                <a:srgbClr val="f9f9f9"/>
              </a:solidFill>
              <a:latin typeface="Constantia"/>
            </a:endParaRPr>
          </a:p>
        </p:txBody>
      </p:sp>
      <p:sp>
        <p:nvSpPr>
          <p:cNvPr id="215"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reative, Pers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Hooks the reader</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lear transition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Wow of an ending</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Main Point</a:t>
            </a: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ati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To-the-point lead</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onnecting structur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s and educate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Ending reinforces main point</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verall-The Paper</a:t>
            </a:r>
            <a:endParaRPr b="0" lang="en-US" sz="4200" spc="-1" strike="noStrike">
              <a:solidFill>
                <a:srgbClr val="f9f9f9"/>
              </a:solidFill>
              <a:latin typeface="Constantia"/>
            </a:endParaRPr>
          </a:p>
        </p:txBody>
      </p:sp>
      <p:sp>
        <p:nvSpPr>
          <p:cNvPr id="217" name="PlaceHolder 2"/>
          <p:cNvSpPr>
            <a:spLocks noGrp="1"/>
          </p:cNvSpPr>
          <p:nvPr>
            <p:ph/>
          </p:nvPr>
        </p:nvSpPr>
        <p:spPr>
          <a:xfrm>
            <a:off x="457200" y="1447560"/>
            <a:ext cx="8229600" cy="4678200"/>
          </a:xfrm>
          <a:prstGeom prst="rect">
            <a:avLst/>
          </a:prstGeom>
          <a:noFill/>
          <a:ln w="0">
            <a:noFill/>
          </a:ln>
        </p:spPr>
        <p:txBody>
          <a:bodyPr anchor="t">
            <a:normAutofit fontScale="92000"/>
          </a:bodyPr>
          <a:p>
            <a:pPr marL="25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heck list:</a:t>
            </a:r>
            <a:endParaRPr b="0" lang="en-US" sz="1800" spc="-1" strike="noStrike">
              <a:solidFill>
                <a:srgbClr val="ffffff"/>
              </a:solidFill>
              <a:latin typeface="Constantia"/>
            </a:endParaRPr>
          </a:p>
          <a:p>
            <a:pPr marL="25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as an effective beginning, middle, and end.</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uses paragraphing effectively.</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ontains a strong controlling idea.</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rogresses in a logical order.</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uses effective cohesive devices (such as transitions, repetition, pronouns, parallel structure) between and within paragraphs</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learly addresses the topic and provides convincing elaboration through specific and relevant details, reasons, and examples.</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uses precise and vivid language.</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ontains sentences that are clear and varied in structure.</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ffectively uses writing techniques (such as imagery, humor, point of view, voice).</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hows complexity, freshness of thought, and individual perspective.</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learly shows an awareness of audience and purpose.</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ontains few errors in grammar/usage, punctuation, capitalization, and/or spelling.</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2"/>
          <p:cNvSpPr/>
          <p:nvPr/>
        </p:nvSpPr>
        <p:spPr>
          <a:xfrm>
            <a:off x="1143000" y="1523880"/>
            <a:ext cx="7010280" cy="39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good writ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deas</a:t>
            </a:r>
            <a:r>
              <a:rPr b="0" lang="en-US" sz="2000" spc="-1" strike="noStrike">
                <a:solidFill>
                  <a:srgbClr val="ffffff"/>
                </a:solidFill>
                <a:latin typeface="Arial"/>
              </a:rPr>
              <a:t> that are interesting and importa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rganization</a:t>
            </a:r>
            <a:r>
              <a:rPr b="0" lang="en-US" sz="2000" spc="-1" strike="noStrike">
                <a:solidFill>
                  <a:srgbClr val="ffffff"/>
                </a:solidFill>
                <a:latin typeface="Arial"/>
              </a:rPr>
              <a:t> that is logical and effectiv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Voice</a:t>
            </a:r>
            <a:r>
              <a:rPr b="0" lang="en-US" sz="2000" spc="-1" strike="noStrike">
                <a:solidFill>
                  <a:srgbClr val="ffffff"/>
                </a:solidFill>
                <a:latin typeface="Arial"/>
              </a:rPr>
              <a:t> that is individual and appropriat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ord Choice</a:t>
            </a:r>
            <a:r>
              <a:rPr b="0" lang="en-US" sz="2000" spc="-1" strike="noStrike">
                <a:solidFill>
                  <a:srgbClr val="ffffff"/>
                </a:solidFill>
                <a:latin typeface="Arial"/>
              </a:rPr>
              <a:t> that is specific and memorabl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entence Fluency</a:t>
            </a:r>
            <a:r>
              <a:rPr b="0" lang="en-US" sz="2000" spc="-1" strike="noStrike">
                <a:solidFill>
                  <a:srgbClr val="ffffff"/>
                </a:solidFill>
                <a:latin typeface="Arial"/>
              </a:rPr>
              <a:t> that is smooth and expressiv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onventions</a:t>
            </a:r>
            <a:r>
              <a:rPr b="0" lang="en-US" sz="2000" spc="-1" strike="noStrike">
                <a:solidFill>
                  <a:srgbClr val="ffffff"/>
                </a:solidFill>
                <a:latin typeface="Arial"/>
              </a:rPr>
              <a:t> that are correct and communicative</a:t>
            </a: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 writing involves those  six traits of wri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rubric based on the traits will be used as an assessment tool for various written wor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2"/>
          <p:cNvSpPr/>
          <p:nvPr/>
        </p:nvSpPr>
        <p:spPr>
          <a:xfrm>
            <a:off x="762120" y="1143000"/>
            <a:ext cx="72388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6 + 1 Traits of Writ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deas/content</a:t>
            </a:r>
            <a:r>
              <a:rPr b="0" lang="en-US" sz="1800" spc="-1" strike="noStrike">
                <a:solidFill>
                  <a:srgbClr val="ffffff"/>
                </a:solidFill>
                <a:latin typeface="Constantia"/>
              </a:rPr>
              <a:t>-the heart of the message, the content of the piece, the main theme, with details that enrich and develop that them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Organization</a:t>
            </a:r>
            <a:r>
              <a:rPr b="0" lang="en-US" sz="1800" spc="-1" strike="noStrike">
                <a:solidFill>
                  <a:srgbClr val="ffffff"/>
                </a:solidFill>
                <a:latin typeface="Constantia"/>
              </a:rPr>
              <a:t>-the internal structure (the roadmap), the thread of central meaning, the logical and sometimes intriguing pattern of idea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Voice</a:t>
            </a:r>
            <a:r>
              <a:rPr b="0" lang="en-US" sz="1800" spc="-1" strike="noStrike">
                <a:solidFill>
                  <a:srgbClr val="ffffff"/>
                </a:solidFill>
                <a:latin typeface="Constantia"/>
              </a:rPr>
              <a:t>-the heart and soul, magic, wit, feeling and conviction of the writer coming out</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d choice-</a:t>
            </a:r>
            <a:r>
              <a:rPr b="0" lang="en-US" sz="1800" spc="-1" strike="noStrike">
                <a:solidFill>
                  <a:srgbClr val="ffffff"/>
                </a:solidFill>
                <a:latin typeface="Constantia"/>
              </a:rPr>
              <a:t>the use of rich, colorful, precise language that moves and enlightens the reader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entence fluency-</a:t>
            </a:r>
            <a:r>
              <a:rPr b="0" lang="en-US" sz="1800" spc="-1" strike="noStrike">
                <a:solidFill>
                  <a:srgbClr val="ffffff"/>
                </a:solidFill>
                <a:latin typeface="Constantia"/>
              </a:rPr>
              <a:t>the rhythm and flow of the language, the sound of word patterns, the way in which the writing plays to the ear, not just to the ey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onventions</a:t>
            </a:r>
            <a:r>
              <a:rPr b="0" lang="en-US" sz="1800" spc="-1" strike="noStrike">
                <a:solidFill>
                  <a:srgbClr val="ffffff"/>
                </a:solidFill>
                <a:latin typeface="Constantia"/>
              </a:rPr>
              <a:t>-the mechanical correctness of the piece; spelling, grammar, and usage, paragraphing, use of capitals and punctu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esentations</a:t>
            </a:r>
            <a:r>
              <a:rPr b="0" lang="en-US" sz="1800" spc="-1" strike="noStrike">
                <a:solidFill>
                  <a:srgbClr val="ffffff"/>
                </a:solidFill>
                <a:latin typeface="Constantia"/>
              </a:rPr>
              <a:t>-the culmination all, the sharing with outside read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Learning the Traits One by One</a:t>
            </a: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1371600" y="336600"/>
            <a:ext cx="54864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eas/Cont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deas are the heart of the message, the content of the piece, with strong, clear and interesting details that enrich and develop the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rrow the topic to something specific</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sure main idea is important to writer and audienc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ck to a clear, central theme that drives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riting (meaningful purpos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aborate the main idea with plenty of informa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important, interesting supporting detail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velop the topic in an interesting way</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se Lots of </a:t>
            </a:r>
            <a:r>
              <a:rPr b="0" i="1" lang="en-US" sz="1800" spc="-1" strike="noStrike" u="sng">
                <a:solidFill>
                  <a:srgbClr val="ffffff"/>
                </a:solidFill>
                <a:uFillTx/>
                <a:latin typeface="Arial"/>
              </a:rPr>
              <a:t>showing</a:t>
            </a:r>
            <a:r>
              <a:rPr b="0" lang="en-US" sz="1800" spc="-1" strike="noStrike">
                <a:solidFill>
                  <a:srgbClr val="ffffff"/>
                </a:solidFill>
                <a:latin typeface="Arial"/>
              </a:rPr>
              <a:t> (specific) rather than </a:t>
            </a:r>
            <a:r>
              <a:rPr b="0" i="1" lang="en-US" sz="1800" spc="-1" strike="noStrike" u="sng">
                <a:solidFill>
                  <a:srgbClr val="ffffff"/>
                </a:solidFill>
                <a:uFillTx/>
                <a:latin typeface="Arial"/>
              </a:rPr>
              <a:t>tell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neraliti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ay in control of the topic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1219320" y="1066680"/>
            <a:ext cx="58672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Key Ques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the writer stay focused and share original and fresh information or perspectives about the topic?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the writer start drift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Ideas/Content</a:t>
            </a: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lear</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trolling idea</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focused/ narrowe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ufficient inform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sightfu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rigin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teresting detail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mplete</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838080" y="1066680"/>
            <a:ext cx="6782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 is the internal structure of a piece of writing like  framework of a building. It is the road map which directs the reader through the paper, the thread of central meaning, the logical pattern of the ideas. Good organization helps a reader understand the writer’s message or follow the writing with ea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egin his/her writing with an inviting introduction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oks” the rea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Follow a logical and effective order, structure, &amp; sequ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Use smooth transitions that link key points and ide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lace supporting details where they are most appropri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nd his/her writing with a conclusion that gives the read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ense of resolution or something to think abo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6:28:36Z</dcterms:created>
  <dc:creator>Spriggs, Penny</dc:creator>
  <dc:description/>
  <dc:language>en-US</dc:language>
  <cp:lastModifiedBy>Mccracken, Gene</cp:lastModifiedBy>
  <cp:lastPrinted>2012-08-15T14:13:04Z</cp:lastPrinted>
  <dcterms:modified xsi:type="dcterms:W3CDTF">2012-09-04T17:44:32Z</dcterms:modified>
  <cp:revision>52</cp:revision>
  <dc:subject/>
  <dc:title>READING AND WRITING:</dc:title>
</cp:coreProperties>
</file>